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D2F-C720-4BFB-9CD8-ED934955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F59-C0B7-4674-A9D2-39084326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882-E1D8-4277-A6EC-233DCAAF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727-0067-40A6-9458-1E5F0E6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12E9-332C-4D61-983B-99E701AD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DC8-D349-4E3D-9419-842B30A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9476-612D-46FF-92D1-D3B3C532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CD70-68A7-4FA6-A1FE-A7BECBB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6009-9B63-49B9-9D3D-286663B4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6A17-5F06-4E52-A253-6E68425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841-FB41-4581-ADEE-9136856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0DF-6D5B-447C-9167-1A3517B6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EA08-FFDA-4C4F-A94D-88BD3BD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2C2-2BA6-4A1A-BB5C-0ECEE3C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9310-11B1-45B3-A566-24FFA91F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5042-6E84-403A-B32F-345D3C42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A88B-9DAD-480E-979E-50DF6087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8E86-C2D5-4002-AB87-AAB9DA87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15D8-3CD9-4E32-9441-FF6C4DE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9B5C-AFD7-4FED-99A8-44753414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B1C0-9EF0-4F41-BEFD-FEC0298F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C407-D6C8-4A2C-9691-1C9E0F4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FBF-A06B-4CE4-8934-D46F79F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0793-87EC-47A3-A2AA-B7F8542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9843-6BB3-46FE-8131-F1FA0DB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50DA-F01B-41E9-8298-D7690905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0C70-1FCC-46A6-BCF4-67A4067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86EA-ACE7-46BC-B6FE-8CD70DBC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8008-1A53-4F92-8C81-19A41FF6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8B37-A946-46CD-BBC7-C3B40FD5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9B8E-A2AE-4D30-A9DA-4578C7A4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0298-6286-4D04-9234-6791D4A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5526-3AD3-48C8-AFBA-0CADC57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576-660F-4B69-ADBD-7A36070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3F41-C9FA-4B06-8F38-D52F11CC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BE23-9BD8-4CFC-9777-8DF70ED4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0201-B9EC-43F0-9705-B286263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7D2A-72CB-4193-B84B-C7D2B1C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620A-4EB9-49E4-859F-E554616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F8D2-C5BD-410A-A56B-7BBDAF12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2549-AC49-43F0-A9C7-DDA2A09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5DF7-265B-4B8D-BC68-754D518B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C04C-B891-4AAD-9795-C5A9B79B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137B-7944-4687-8E1A-1626DB5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459-EE3C-46A9-91BD-1D76175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1F79-7F2C-4664-B023-87B2F9EC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2237-3666-4C46-8B7A-75678FC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0824-DFFC-4B9F-B185-A416E1A2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A36F-6D8C-4975-8F66-C222EB78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48E3-0D1A-402B-A83C-612A35C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5EB1-67D1-4B7F-A61D-EFAA431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202C3-D93D-49D4-99ED-85C305C8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BDF1-836D-4FDD-BF8F-6651A165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AC4C-E62F-463E-9B38-EBC99F7C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167B-874B-430F-9A51-A0F6D1D5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88A-4A2B-42F2-AC2E-6685881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F1D8-3262-40C3-AC45-D2DDB32C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31E7-2A46-4807-9F2F-C4ACFA39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9F23-09A3-43E0-A020-DC218E5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5B3C-F05A-4E6E-8CFB-211A0871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14B7-9514-44F2-8A38-9B440A7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D5C95-6F3F-41FB-83AE-9E8BF3A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C1F7F-510B-4A0D-B1F6-979717E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00C8-B2D3-44D1-8D9C-6EC76372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E456-AC74-4E10-9E04-BD735D1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B448-E2EE-478E-AD78-CB67CF1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EC3-2548-4838-A997-0EF5508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E04F-114A-4493-BB18-43C804C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7905E-4A14-4B38-9327-39792DDA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FFDB-A2A6-4A81-8657-BE7D4610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6A5A1-F687-4249-9213-F50E0B45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10C7-77D6-44AB-8E1D-C048576E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2D5C-0BE5-48A0-AD4D-7BEAA02B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5D7A7-AD66-4467-AA3E-BDA1271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9872-2FFD-43F9-BEF7-10AA2AEE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803F-8112-4E50-9BA2-F711FF8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3EB50-CBB9-4F62-8D6C-A08347D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F47-4D51-45D5-A487-77D272B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D90C-C772-4596-808E-9ABDA78B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73D6-3069-4378-9C25-5CC4555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3E1D7-E204-40E5-B6B0-2B66F7FA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E95F-C852-4652-89CB-919DB853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2DA10-12B4-4258-8A37-FF35073D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5F122-D1D1-42DA-A265-15436460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09C9D-817C-4CE9-9A97-60EDDC31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B79BA-1036-411B-980F-971AF97D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170E-A6EF-4F05-91C5-8F92BE36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1231-37AE-4055-8121-E4CF36B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AD2-A0A9-41B9-86BA-A504399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0D00-4186-4B6B-B122-6E77848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433A8-2DBF-4DE1-9778-6F22582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432E1-8D67-49D5-B8E4-6F4ED7A5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6A821-F6AF-44E5-B9CA-90049C4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EE462-4714-4BD1-A9AF-BADDEE70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8AA3-224A-47D1-800C-50567831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7789-B87E-4568-95EA-6DD006A0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E7FD-1028-42C5-9AD3-AF54EDCB14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F25-393D-41BF-AF3D-F2E3BC1853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8E4-8041-4285-B4E7-EAD489D2A7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AFF-0970-451D-A29A-D93161B37D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D45-926B-4FBC-94F6-33F248931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000-B6DF-4D77-AA3C-9614DD98C8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7268-360B-4B3C-BD23-E0022B54E7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A36B-4AA4-4C41-807B-31A561C9D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water without using the word w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 Pop-http://www.brainpop.com/science/earthsystem/water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228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olution is a mixture that forms when one substance dissolves anoth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olvent – the substance that does the dissolving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any substances dissolve in water because water is polar. (like the powdered Kool-Aid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is a universal solvent because it dissolves almost everyth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273480" cy="320040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95120" y="19080"/>
            <a:ext cx="84981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66680" y="175212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s the amount of heat needed to increase the temperature of a certain mass of substance by 1 degree C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requires a lot of heat to increase its temperatur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’s high specific heat is due to the strong attraction among water molecu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51920" y="1481040"/>
            <a:ext cx="533412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is the only substance on Earth that commonly exists in all 3 states of matt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olid- ice cub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iquid- water in a lak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Gas- water vapor (humidity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jcameron\AppData\Local\Microsoft\Windows\Temporary Internet Files\Content.IE5\Q7LGH5Q1\MP900438800[1].jpg"/>
          <p:cNvPicPr/>
          <p:nvPr/>
        </p:nvPicPr>
        <p:blipFill>
          <a:blip r:embed="rId2"/>
          <a:stretch/>
        </p:blipFill>
        <p:spPr>
          <a:xfrm>
            <a:off x="5867280" y="457200"/>
            <a:ext cx="3075120" cy="2438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C:\Users\jcameron\AppData\Local\Microsoft\Windows\Temporary Internet Files\Content.IE5\93GYB7TR\MP900437200[1].jpg"/>
          <p:cNvPicPr/>
          <p:nvPr/>
        </p:nvPicPr>
        <p:blipFill>
          <a:blip r:embed="rId3"/>
          <a:stretch/>
        </p:blipFill>
        <p:spPr>
          <a:xfrm>
            <a:off x="5181480" y="3429000"/>
            <a:ext cx="38102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6840" y="9140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process by which molecules at the surfac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f a liquid absorb enough energy to change into a gaseous stat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boils at 1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 and a change of state occur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s get enough energy to escape the liquid and become invisible water vapor (gas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60480"/>
            <a:ext cx="8498160" cy="890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jcameron\AppData\Local\Microsoft\Windows\Temporary Internet Files\Content.IE5\P158YYPT\MC900389380[1].wmf"/>
          <p:cNvPicPr/>
          <p:nvPr/>
        </p:nvPicPr>
        <p:blipFill>
          <a:blip r:embed="rId2"/>
          <a:stretch/>
        </p:blipFill>
        <p:spPr>
          <a:xfrm rot="501600">
            <a:off x="6129360" y="3697200"/>
            <a:ext cx="2813040" cy="2971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3"/>
          <a:stretch/>
        </p:blipFill>
        <p:spPr>
          <a:xfrm>
            <a:off x="5334120" y="99072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142640"/>
            <a:ext cx="6858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 water cools down, it releases some of its energy to the surrounding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s slow down and temperature decreas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ndensation- process in which a gas changes to a liqui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sweat you see on the outside of a glas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Users\jcameron\AppData\Local\Microsoft\Windows\Temporary Internet Files\Content.IE5\Q7LGH5Q1\MP900438445[1].jpg"/>
          <p:cNvPicPr/>
          <p:nvPr/>
        </p:nvPicPr>
        <p:blipFill>
          <a:blip r:embed="rId2"/>
          <a:stretch/>
        </p:blipFill>
        <p:spPr>
          <a:xfrm>
            <a:off x="5334120" y="175248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68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iquid water freezes at 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s lose energy and move more slowl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n icicle forming from water dripping off a roof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4572000" y="411336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Users\jcameron\AppData\Local\Microsoft\Windows\Temporary Internet Files\Content.IE5\93GYB7TR\MP900406905[1].jpg"/>
          <p:cNvPicPr/>
          <p:nvPr/>
        </p:nvPicPr>
        <p:blipFill>
          <a:blip r:embed="rId3"/>
          <a:stretch/>
        </p:blipFill>
        <p:spPr>
          <a:xfrm>
            <a:off x="4572000" y="129528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6840" y="148104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 the temperature reaches above 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C the solid ice melts and becomes a liquid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jcameron\AppData\Local\Microsoft\Windows\Temporary Internet Files\Content.IE5\Q7LGH5Q1\MP900438800[1].jpg"/>
          <p:cNvPicPr/>
          <p:nvPr/>
        </p:nvPicPr>
        <p:blipFill>
          <a:blip r:embed="rId2"/>
          <a:stretch/>
        </p:blipFill>
        <p:spPr>
          <a:xfrm>
            <a:off x="5486400" y="1676520"/>
            <a:ext cx="307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e end of your notes write an eight sentence summary paragraph about your notes and turn into bask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52280" y="1752480"/>
            <a:ext cx="464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is made up of ato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toms attach together, or bond to form molecule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2 Hydrogen atoms bond to 1 Oxygen atom form a water molecule (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0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C:\Users\jcameron\AppData\Local\Microsoft\Windows\Temporary Internet Files\Content.IE5\93GYB7TR\MP900444787[1].jpg"/>
          <p:cNvPicPr/>
          <p:nvPr/>
        </p:nvPicPr>
        <p:blipFill>
          <a:blip r:embed="rId2"/>
          <a:stretch/>
        </p:blipFill>
        <p:spPr>
          <a:xfrm>
            <a:off x="4740120" y="1676520"/>
            <a:ext cx="3946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4920" y="17521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ach end of a molecule has a slight electric char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xygen = slight negative char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ydrogen =slight positive char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 that has electrically charged areas is a polar molecul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61008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positive Hydrogen ends of the water molecule  attract the negative Oxygen ends of nearby water molecule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end result, the water molecules tend to stick together because of the electric force; similar to an magnetic forc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2824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apillary Ac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urface Tens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Universal Solvent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pecific He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5042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jcameron\AppData\Local\Microsoft\Windows\Temporary Internet Files\Content.IE5\P158YYPT\MP900444790[1].jpg"/>
          <p:cNvPicPr/>
          <p:nvPr/>
        </p:nvPicPr>
        <p:blipFill>
          <a:blip r:embed="rId2"/>
          <a:stretch/>
        </p:blipFill>
        <p:spPr>
          <a:xfrm>
            <a:off x="4648320" y="2362320"/>
            <a:ext cx="404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2949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mbined force of attraction among water molecules and the molecules of surrounding material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xample: drinking from a straw {pg 48} (you will see the liquid rise hig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the straw than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outside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f the straw) OR paper towel soaking up wat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molecules are attracted to the straw, they pull other water molecules up with them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9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jcameron\AppData\Local\Microsoft\Windows\Temporary Internet Files\Content.IE5\BU7RQ4VF\MC900250795[1].wmf"/>
          <p:cNvPicPr/>
          <p:nvPr/>
        </p:nvPicPr>
        <p:blipFill>
          <a:blip r:embed="rId2"/>
          <a:stretch/>
        </p:blipFill>
        <p:spPr>
          <a:xfrm rot="561000">
            <a:off x="7467480" y="3276360"/>
            <a:ext cx="11606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0520" y="1295280"/>
            <a:ext cx="61722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action or property of like molecules sticking together, having an attractive forc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molecules are attracted to other water molecu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666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tendency of water to stick to other substance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can also be attracted to other material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391" name="Title 3" descr=""/>
          <p:cNvPicPr/>
          <p:nvPr/>
        </p:nvPicPr>
        <p:blipFill>
          <a:blip r:embed="rId2"/>
          <a:stretch/>
        </p:blipFill>
        <p:spPr>
          <a:xfrm>
            <a:off x="195120" y="6480"/>
            <a:ext cx="849816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http://ga.water.usgs.gov/edu/graphics/adhesion-cohesion-2.gif"/>
          <p:cNvPicPr/>
          <p:nvPr/>
        </p:nvPicPr>
        <p:blipFill>
          <a:blip r:embed="rId3"/>
          <a:stretch/>
        </p:blipFill>
        <p:spPr>
          <a:xfrm>
            <a:off x="5334120" y="990720"/>
            <a:ext cx="26668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218960"/>
            <a:ext cx="41148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tightness across the surface of water that is caused by the polar molecules pulling on one another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tightness of the water keeps the bug from sinking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pulling forces the surface of the water into a curved shape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449568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rface tension causes raindrops to form round beads when they hit a car windsh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0:35:25Z</dcterms:created>
  <dc:creator>melissa swofford</dc:creator>
  <dc:description/>
  <dc:language>en-US</dc:language>
  <cp:lastModifiedBy>LCS Staff</cp:lastModifiedBy>
  <dcterms:modified xsi:type="dcterms:W3CDTF">2013-12-17T16:58:33Z</dcterms:modified>
  <cp:revision>61</cp:revision>
  <dc:subject/>
  <dc:title>Bell Ringer</dc:title>
</cp:coreProperties>
</file>